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9862-ECF3-4B71-B4CD-8E2DD9F2B39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522E-116B-46D3-BA22-FBD528F8BE8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2266-8F83-4DD1-8525-0A78B6F1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1424-1A1D-4E31-9E71-A7E0D31B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D1F2-ABF5-48E2-827D-263A17BA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2C18-E0B4-4101-9463-37B0B08B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1164-5EA8-4940-8E90-CA3A2D1A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EAD2-01CF-432C-8914-8B7BEAC7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07D6-C4A9-4034-AC5C-31D0FC49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9F89-28C7-466F-ACCB-40DC98ED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9227-EA56-44D5-91A4-1275E9DE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41ED-51BB-4B11-9779-1BD49348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9AAA-4400-438F-9BC8-49B3FCCF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5565-8FA2-44A3-AB7B-166DA25B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CC3B-615C-43EA-859C-06B3E42C6D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tion Y/Millenn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able to name and describe three or f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olog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s (political/economic/soci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illustrate the styles and manners of today’s youth/cultu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hib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th Amendment gave federal government power to pass Volstead Act of 1920 that prohibits production, sale, or transport of alcoholic beverag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ption of alcohol redu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hibition resented in urban are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tlegging became big business (crime increas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ding, Coolidge, and Hoo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turn to "normalcy"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riffs rai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rporate, income taxes c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nding c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overnment-business coope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publican presidents appealed to traditional American valu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olidge represented America in his austerity and rectitud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over represented the self-made ma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rban wing of the Democratic party  emerged as the most powerful force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ill divided between rural and urban democr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ld and the N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d historical view:  The Depression ended the spirit of the twen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historical view: The twenties laid the foundations of modern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oup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One Individual needs to be the spokesperson of the gro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(Choose a side!!!!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roup 1=Politics and Governmen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 Were the 20’s a retreat from Progressivism or an extension of refor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roup 2=Economic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 Were the 20’s a business paradise or an economic black hol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roup 3=Cultural Clash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 Was this an age of unlawful protest or legal repression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roup 4=Diplomacy and Foreign Affai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 Are the 20’s best remembered as a period of isolation or one of internationalis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roup 5=Mass Cultur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 Was the so-called “Jazz Age” characterized as carefree or insecur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What similarities do you see between the image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What differences do you see between the image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What conflict is being suggested by the imag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0" y="2057400"/>
            <a:ext cx="4648320" cy="3645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304920" y="60958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ward Hopper, Automat, 19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4648320" y="2057400"/>
            <a:ext cx="4495680" cy="3654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4876920" y="60958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Sloan, 6th Ave Elevated, 19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ITION TO MODERN AME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160" y="40381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hapter 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s of Economic Grow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Industrial Revolu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lectricity replaced steam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odern assembly introduced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w technologies meant new industries and busin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amples: automobiles, radio, motion pictures, marketing, advertising, etc…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ig business weakened regionalism, brought uniformity to Americ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.S. developed the highest standard of living in the worl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DIVI7233538"/>
          <p:cNvPicPr/>
          <p:nvPr/>
        </p:nvPicPr>
        <p:blipFill>
          <a:blip r:embed="rId2"/>
          <a:stretch/>
        </p:blipFill>
        <p:spPr>
          <a:xfrm>
            <a:off x="4800600" y="1523880"/>
            <a:ext cx="359568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nomic Weakn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ilroads poorly manag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l displaced by petrole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s faced decline in exports, pr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wing disparity between income of laborers, middle-class manag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ddle class speculating with money (stock marke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 in Cultural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ity Life in the Jazz 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arlem Renaissance-African Americans prominent in music, poetr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pid increase in urban popul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kyscrapers symbolized the new mass cultur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mmunities of home, church, and school were absent in the citi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ade was notable for obsessive interest in celebrities and s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elebrities -Charles Lindbergh, Gertrude Ederl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ports-Jack Dempsey, Babe Ruth, etc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men starting to challenge conformity (equal righ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lapper Girls (minority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xual revolution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25: Scopes Trial discredited fundamentalism among intellectu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undamentalists vs. Modernists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"Exiled" American writers put U.S. in forefront of world litera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y were bewildered by the rapid changing social patterns and appalled by the materialism of America as well as the wastefulness of WWI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.S. Eliot, Ernest Hemingway, F. Scott Fitzgerald, etc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ural Counterat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ral Americans identified urban culture with Communism, crime, immo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s attempted to force reform on the American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surge of bigot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ra of re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 Sc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919:  “Red Scare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llegal roundups of innocent peopl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cible deportation of ali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rrorism against “radicals,” immigra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cco and Vanzetti execu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925: Klan membership hit 5 mill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iolence, internal corruption resulted in Klan’s virtual disappearance by 1930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924: National Origins A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Quotas favored northern European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xican immigrants exempted from quo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5:26:25Z</dcterms:created>
  <dc:creator>Timothy Hall</dc:creator>
  <dc:description/>
  <cp:keywords/>
  <dc:language>en-US</dc:language>
  <cp:lastModifiedBy>Thaddeus J. Brooks</cp:lastModifiedBy>
  <cp:lastPrinted>2012-09-21T06:17:17Z</cp:lastPrinted>
  <dcterms:modified xsi:type="dcterms:W3CDTF">2013-10-28T14:17:10Z</dcterms:modified>
  <cp:revision>28</cp:revision>
  <dc:subject/>
  <dc:title>CHAPTER 25 TRANSITION TO MODERN AMERICA</dc:title>
</cp:coreProperties>
</file>